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spacesound3.wav" ContentType="audio/x-wav"/>
  <Override PartName="/ppt/media/spship04.wav" ContentType="audio/x-wav"/>
  <Override PartName="/ppt/media/cool%20man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630-CD79-45F2-AC17-01D0B158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BE8-55F3-4D7E-8C05-D9EEBE83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FAB-CD8A-477D-B63B-8EEE58D2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4F1-A51C-4664-9606-8AB78C3C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8EB-9ABF-4FF9-9490-BD389B0D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370-6DA2-4032-A968-1E6445B5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C95-F080-4B9D-8939-15BF3C0D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12C-6CC5-4D80-A2AE-2CE17A68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D06-4B6C-4ADD-A783-20DA8D4B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986-1909-4752-B198-A2028EEF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AED-AF77-4730-A42A-BC45A312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BA2-B89D-4421-8F0D-52782432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77A2-7842-4BB7-B10B-7E2D27CA2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hzipup01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jetflyby2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hzipup01.wav"/><Relationship Id="rId25" Type="http://schemas.openxmlformats.org/officeDocument/2006/relationships/audio" Target="../media/zapbig0g.wav"/><Relationship Id="rId26" Type="http://schemas.openxmlformats.org/officeDocument/2006/relationships/audio" Target="../media/zapbig0g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hzipup01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apbig0g.wav"/><Relationship Id="rId33" Type="http://schemas.openxmlformats.org/officeDocument/2006/relationships/audio" Target="../media/bserie06.wav"/><Relationship Id="rId34" Type="http://schemas.openxmlformats.org/officeDocument/2006/relationships/audio" Target="../media/bserie06.wav"/><Relationship Id="rId35" Type="http://schemas.openxmlformats.org/officeDocument/2006/relationships/audio" Target="../media/bserie06.wav"/><Relationship Id="rId36" Type="http://schemas.openxmlformats.org/officeDocument/2006/relationships/audio" Target="../media/bserie06.wav"/><Relationship Id="rId37" Type="http://schemas.openxmlformats.org/officeDocument/2006/relationships/audio" Target="../media/jetflyby2.wav"/><Relationship Id="rId38" Type="http://schemas.openxmlformats.org/officeDocument/2006/relationships/audio" Target="../media/jetflyby2.wav"/><Relationship Id="rId39" Type="http://schemas.openxmlformats.org/officeDocument/2006/relationships/audio" Target="../media/bserie06.wav"/><Relationship Id="rId40" Type="http://schemas.openxmlformats.org/officeDocument/2006/relationships/audio" Target="../media/bserie06.wav"/><Relationship Id="rId41" Type="http://schemas.openxmlformats.org/officeDocument/2006/relationships/audio" Target="../media/bserie06.wav"/><Relationship Id="rId42" Type="http://schemas.openxmlformats.org/officeDocument/2006/relationships/audio" Target="../media/hzipup01.wav"/><Relationship Id="rId43" Type="http://schemas.openxmlformats.org/officeDocument/2006/relationships/audio" Target="../media/zapbig0g.wav"/><Relationship Id="rId44" Type="http://schemas.openxmlformats.org/officeDocument/2006/relationships/audio" Target="../media/zapbig0g.wav"/><Relationship Id="rId45" Type="http://schemas.openxmlformats.org/officeDocument/2006/relationships/audio" Target="../media/zapbig0g.wav"/><Relationship Id="rId46" Type="http://schemas.openxmlformats.org/officeDocument/2006/relationships/audio" Target="../media/zapbig0g.wav"/><Relationship Id="rId4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spacesound3.wav"/><Relationship Id="rId3" Type="http://schemas.openxmlformats.org/officeDocument/2006/relationships/audio" Target="../media/spacesound3.wav"/><Relationship Id="rId4" Type="http://schemas.openxmlformats.org/officeDocument/2006/relationships/audio" Target="../media/spship04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hzipup01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hzipup01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jetflyby2.wav"/><Relationship Id="rId23" Type="http://schemas.openxmlformats.org/officeDocument/2006/relationships/audio" Target="../media/cool%20man.wav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spacesound3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apbig0g.wav"/><Relationship Id="rId10" Type="http://schemas.openxmlformats.org/officeDocument/2006/relationships/audio" Target="../media/zapbig0g.wav"/><Relationship Id="rId11" Type="http://schemas.openxmlformats.org/officeDocument/2006/relationships/audio" Target="../media/hzipup01.wav"/><Relationship Id="rId12" Type="http://schemas.openxmlformats.org/officeDocument/2006/relationships/audio" Target="../media/zapbig0g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spship04.wav"/><Relationship Id="rId21" Type="http://schemas.openxmlformats.org/officeDocument/2006/relationships/audio" Target="../media/bserie06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bserie06.wav"/><Relationship Id="rId25" Type="http://schemas.openxmlformats.org/officeDocument/2006/relationships/audio" Target="../media/zipdn102.wav"/><Relationship Id="rId26" Type="http://schemas.openxmlformats.org/officeDocument/2006/relationships/audio" Target="../media/zipdn102.wav"/><Relationship Id="rId27" Type="http://schemas.openxmlformats.org/officeDocument/2006/relationships/audio" Target="../media/zapbig0g.wav"/><Relationship Id="rId28" Type="http://schemas.openxmlformats.org/officeDocument/2006/relationships/audio" Target="../media/hzipup01.wav"/><Relationship Id="rId29" Type="http://schemas.openxmlformats.org/officeDocument/2006/relationships/audio" Target="../media/bserie06.wav"/><Relationship Id="rId30" Type="http://schemas.openxmlformats.org/officeDocument/2006/relationships/audio" Target="../media/zapbig0g.wav"/><Relationship Id="rId31" Type="http://schemas.openxmlformats.org/officeDocument/2006/relationships/audio" Target="../media/zapbig0g.wav"/><Relationship Id="rId32" Type="http://schemas.openxmlformats.org/officeDocument/2006/relationships/audio" Target="../media/zipdn102.wav"/><Relationship Id="rId33" Type="http://schemas.openxmlformats.org/officeDocument/2006/relationships/audio" Target="../media/zapbig0g.wav"/><Relationship Id="rId34" Type="http://schemas.openxmlformats.org/officeDocument/2006/relationships/audio" Target="../media/hzipup01.wav"/><Relationship Id="rId35" Type="http://schemas.openxmlformats.org/officeDocument/2006/relationships/audio" Target="../media/bserie06.wav"/><Relationship Id="rId36" Type="http://schemas.openxmlformats.org/officeDocument/2006/relationships/audio" Target="../media/zapbig0g.wav"/><Relationship Id="rId37" Type="http://schemas.openxmlformats.org/officeDocument/2006/relationships/audio" Target="../media/zapbig0g.wav"/><Relationship Id="rId38" Type="http://schemas.openxmlformats.org/officeDocument/2006/relationships/audio" Target="../media/zipdn102.wav"/><Relationship Id="rId39" Type="http://schemas.openxmlformats.org/officeDocument/2006/relationships/audio" Target="../media/zapbig0g.wav"/><Relationship Id="rId40" Type="http://schemas.openxmlformats.org/officeDocument/2006/relationships/audio" Target="../media/hzipup01.wav"/><Relationship Id="rId41" Type="http://schemas.openxmlformats.org/officeDocument/2006/relationships/audio" Target="../media/bserie06.wav"/><Relationship Id="rId42" Type="http://schemas.openxmlformats.org/officeDocument/2006/relationships/audio" Target="../media/zapbig0g.wav"/><Relationship Id="rId43" Type="http://schemas.openxmlformats.org/officeDocument/2006/relationships/audio" Target="../media/cool%20man.wav"/><Relationship Id="rId4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spacesound3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spship04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hzipup01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audio" Target="../media/cool%20man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0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26880" y="1341360"/>
                <a:ext cx="65502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635800" y="1327320"/>
                <a:ext cx="1296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925640" y="20876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54120" y="352440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21240" y="34005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71680" y="274320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83040" y="3406680"/>
            <a:ext cx="76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70200" y="3414600"/>
            <a:ext cx="76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104 L -0.08455 -0.12717 L -0.15573 -0.1674 L -0.20069 -0.17526 L -0.23107 -0.15792 L -0.27795 -0.11399 L -0.30364 -0.08254 L -0.32604 -0.04809 L -0.33316 -0.00994 E">
                                      <p:cBhvr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0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71520" y="1297080"/>
                <a:ext cx="64594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878440" y="1293840"/>
                <a:ext cx="1344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873760" y="1285920"/>
                <a:ext cx="1344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89080" y="215280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7560" y="358920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4120" y="34369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05000" y="2739960"/>
            <a:ext cx="11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92752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0040" y="343692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9751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976560"/>
            <a:ext cx="6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477504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31960" y="47577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47840" y="47592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8800" y="4749840"/>
            <a:ext cx="4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6080" y="477036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/>
          <p:nvPr/>
        </p:nvCxnSpPr>
        <p:spPr>
          <a:xfrm flipV="1" rot="16200000">
            <a:off x="2084760" y="261612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 rot="16200000">
            <a:off x="2030760" y="31924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 flipV="1" rot="16200000">
            <a:off x="2027520" y="521028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flipV="1" rot="16200000">
            <a:off x="1629000" y="520848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2322360" y="21589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51200" y="359568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7760" y="3443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38640" y="2746440"/>
            <a:ext cx="11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51200" y="29336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33680" y="3443400"/>
            <a:ext cx="6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5240" y="39816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09960" y="3983040"/>
            <a:ext cx="6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73280" y="478152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65600" y="4764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81480" y="47656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62440" y="4756320"/>
            <a:ext cx="4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9720" y="477684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/>
          <p:nvPr/>
        </p:nvCxnSpPr>
        <p:spPr>
          <a:xfrm flipV="1" rot="16200000">
            <a:off x="4118400" y="26226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7" name=""/>
          <p:cNvCxnSpPr/>
          <p:nvPr/>
        </p:nvCxnSpPr>
        <p:spPr>
          <a:xfrm flipV="1" rot="16200000">
            <a:off x="4064400" y="31989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8" name=""/>
          <p:cNvCxnSpPr/>
          <p:nvPr/>
        </p:nvCxnSpPr>
        <p:spPr>
          <a:xfrm flipV="1" rot="16200000">
            <a:off x="4061160" y="521640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89" name=""/>
          <p:cNvCxnSpPr/>
          <p:nvPr/>
        </p:nvCxnSpPr>
        <p:spPr>
          <a:xfrm flipV="1" rot="16200000">
            <a:off x="3662640" y="52149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354400" y="4795920"/>
            <a:ext cx="6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8360" y="3343320"/>
            <a:ext cx="26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9.6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07000" y="4780080"/>
            <a:ext cx="185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73920" y="46958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8600" y="3946680"/>
            <a:ext cx="15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.5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30680" y="39798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0040" y="469908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22920" y="4691160"/>
            <a:ext cx="111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4960" y="2792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1688 L -0.08004 -0.09804 L -0.14774 -0.13225 L -0.19063 -0.13965 L -0.21962 -0.12439 L -0.26424 -0.08717 L -0.28872 -0.06104 L -0.31024 -0.03145 L -0.31736 0.00046 E">
                                      <p:cBhvr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2752 L -0.15868 -0.1674 L -0.29271 -0.22474 L -0.37743 -0.2363 L -0.43542 -0.21248 L -0.52344 -0.14867 L -0.57153 -0.10543 L -0.61458 -0.05549 L -0.6283 -0.00069 E">
                                      <p:cBhvr>
                                        <p:cTn id="7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0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17440" y="1333440"/>
                <a:ext cx="89265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4441680" y="276696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70520" y="420372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7080" y="40514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57960" y="3354480"/>
            <a:ext cx="11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.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70520" y="354168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4051440"/>
            <a:ext cx="96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24560" y="4589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38760" y="4591080"/>
            <a:ext cx="9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2600" y="538956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53722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0800" y="53737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81760" y="5376960"/>
            <a:ext cx="48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9040" y="538488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 flipV="1" rot="16200000">
            <a:off x="6237720" y="323064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 flipV="1" rot="16200000">
            <a:off x="6183720" y="38070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 flipV="1" rot="16200000">
            <a:off x="6180480" y="582444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 flipV="1" rot="16200000">
            <a:off x="5781960" y="582300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8640" y="2112840"/>
                <a:ext cx="29782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90800" y="2104920"/>
                <a:ext cx="1152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46080" y="3005280"/>
                <a:ext cx="21621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743360" y="5370480"/>
            <a:ext cx="4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7560" y="3755880"/>
            <a:ext cx="173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99"/>
                </a:solidFill>
                <a:latin typeface="Times New Roman"/>
              </a:rPr>
              <a:t>36.9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ship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0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5360" y="1400040"/>
                <a:ext cx="63248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÷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294000" y="29113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2840" y="434808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29040" y="4195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09920" y="349884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2840" y="36860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84480" y="4210200"/>
            <a:ext cx="9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76880" y="4734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75160" y="4735440"/>
            <a:ext cx="9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44920" y="5533920"/>
            <a:ext cx="173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37240" y="55166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2760" y="55180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33720" y="5521320"/>
            <a:ext cx="4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21000" y="5529240"/>
            <a:ext cx="3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 flipV="1" rot="16200000">
            <a:off x="5089680" y="33750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 rot="16200000">
            <a:off x="5036040" y="39513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 flipV="1" rot="16200000">
            <a:off x="5032800" y="5969160"/>
            <a:ext cx="7200" cy="427680"/>
          </a:xfrm>
          <a:prstGeom prst="curvedConnector5">
            <a:avLst>
              <a:gd name="adj1" fmla="val -3373684"/>
              <a:gd name="adj2" fmla="val 49957"/>
              <a:gd name="adj3" fmla="val -3373684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43" name=""/>
          <p:cNvCxnSpPr/>
          <p:nvPr/>
        </p:nvCxnSpPr>
        <p:spPr>
          <a:xfrm flipV="1" rot="16200000">
            <a:off x="4634280" y="5967360"/>
            <a:ext cx="6840" cy="427680"/>
          </a:xfrm>
          <a:prstGeom prst="curvedConnector5">
            <a:avLst>
              <a:gd name="adj1" fmla="val -3372222"/>
              <a:gd name="adj2" fmla="val 49957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52600" y="2100240"/>
                <a:ext cx="31701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274760" y="2873520"/>
                <a:ext cx="2259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6719760" y="237348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8.82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42000" y="2494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233676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91320" y="1706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649920" y="2478240"/>
            <a:ext cx="6480" cy="66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53240" y="4141800"/>
            <a:ext cx="9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2941560"/>
            <a:ext cx="8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12160" y="47451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28000" y="3584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80280" y="3589200"/>
            <a:ext cx="8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3732120"/>
            <a:ext cx="97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59760" y="16765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64160" y="4933800"/>
            <a:ext cx="11541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69080" y="16891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760" y="28814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39000" y="41292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75480" y="476244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39080" y="1670040"/>
            <a:ext cx="48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31160" y="5310360"/>
            <a:ext cx="12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8640" y="6102360"/>
            <a:ext cx="11538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23120" y="529740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560" y="594360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90760" y="3654360"/>
            <a:ext cx="15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99"/>
                </a:solidFill>
                <a:latin typeface="Times New Roman"/>
              </a:rPr>
              <a:t>4.4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spship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5 – 10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Evalu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0440" y="1371600"/>
                <a:ext cx="87472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, when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294000" y="29113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22840" y="434808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29040" y="4195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09920" y="3498840"/>
            <a:ext cx="11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22840" y="36860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4480" y="4210200"/>
            <a:ext cx="9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/>
          <p:nvPr/>
        </p:nvCxnSpPr>
        <p:spPr>
          <a:xfrm flipV="1" rot="16200000">
            <a:off x="5089680" y="337500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 flipV="1" rot="16200000">
            <a:off x="5108760" y="4662360"/>
            <a:ext cx="6840" cy="428040"/>
          </a:xfrm>
          <a:prstGeom prst="curvedConnector5">
            <a:avLst>
              <a:gd name="adj1" fmla="val -3372222"/>
              <a:gd name="adj2" fmla="val 50000"/>
              <a:gd name="adj3" fmla="val -337222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76360" y="2100240"/>
                <a:ext cx="3120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35000" y="2989440"/>
                <a:ext cx="2739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1811160" y="3639960"/>
            <a:ext cx="114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99"/>
                </a:solidFill>
                <a:latin typeface="Times New Roman"/>
              </a:rPr>
              <a:t>9.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6480" y="4206960"/>
            <a:ext cx="37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27600" y="291456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2.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56440" y="435132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23200" y="42274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3640" y="3570120"/>
            <a:ext cx="179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 3.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26320" y="4233960"/>
            <a:ext cx="8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pship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ool%20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31, 5 – 10 #1-1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2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10-28T15:55:30Z</dcterms:modified>
  <cp:revision>69</cp:revision>
  <dc:subject/>
  <dc:title>Slide 1</dc:title>
</cp:coreProperties>
</file>